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655E-850E-44E3-AFEA-ABDA7D46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F2E-342C-4945-82B6-AFD00D33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B45-2825-410E-B295-2B2A6B28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6CE-60FA-4732-9935-3BB871EA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0C6-317B-4102-8314-1F6758B4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775-9224-4714-B8E5-B1D5C73F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430-1DC8-4279-8366-DFBED5E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50F-B1A2-462A-A4B7-A6D41205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931-0413-47F3-9737-4C847887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53C-8B83-4BDD-B318-96800E4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75C5-6FB1-4BC6-A4B2-66D6BDA7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E190-F2C2-4D08-9B16-A71B6D5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C16-606B-412D-B7C5-35AC0048C5C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628640"/>
            <a:ext cx="6408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0dc"/>
                </a:solidFill>
                <a:latin typeface="Arial Narrow"/>
              </a:rPr>
              <a:t>Safety in the water </a:t>
            </a:r>
            <a:br>
              <a:rPr sz="4400"/>
            </a:br>
            <a:r>
              <a:rPr b="0" lang="en-US" sz="4400" spc="-1" strike="noStrike">
                <a:solidFill>
                  <a:srgbClr val="f810dc"/>
                </a:solidFill>
                <a:latin typeface="Arial Narrow"/>
              </a:rPr>
              <a:t>for younger k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10dc"/>
                </a:solidFill>
                <a:latin typeface="Arial"/>
              </a:rPr>
              <a:t>By Abbie Lidd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10dc"/>
                </a:solidFill>
                <a:latin typeface="Arial"/>
              </a:rPr>
              <a:t>5/6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03280" y="836640"/>
            <a:ext cx="6335640" cy="100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 Narrow"/>
              </a:rPr>
              <a:t>Sun Smart</a:t>
            </a:r>
            <a:endParaRPr b="0" lang="en-US" sz="1800" spc="1" strike="noStrike">
              <a:ln w="5076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 Narrow"/>
              <a:ea typeface="Arial Narrow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0550000">
            <a:off x="468360" y="2636640"/>
            <a:ext cx="1655640" cy="99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20579400">
            <a:off x="2410920" y="1989000"/>
            <a:ext cx="10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20335200">
            <a:off x="2339640" y="27079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0215800">
            <a:off x="2050920" y="357300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"/>
              </a:rPr>
              <a:t>Wear a wide brimmed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3429000"/>
            <a:ext cx="360360" cy="28728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2440" y="765000"/>
            <a:ext cx="1141560" cy="1152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692280"/>
            <a:ext cx="1141560" cy="1152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 rot="20005800">
            <a:off x="5148360" y="1484280"/>
            <a:ext cx="1555560" cy="1816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rot="471000">
            <a:off x="5724000" y="3715920"/>
            <a:ext cx="3167280" cy="2160720"/>
          </a:xfrm>
          <a:prstGeom prst="cloudCallout">
            <a:avLst>
              <a:gd name="adj1" fmla="val -39634"/>
              <a:gd name="adj2" fmla="val -63032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"/>
              </a:rPr>
              <a:t>Put sunscreen on before you go to the beach or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"/>
              </a:rPr>
              <a:t>Because you might get bur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26920" y="189000"/>
            <a:ext cx="80298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wim betwean the flags at the beach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8424720" cy="1779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39280" y="549360"/>
            <a:ext cx="82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F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Find the flags and swim between them - the red and yellow flags mark the safest place to swim at the bea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L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Look at the safety signs - they help you identify potential dangers and daily conditions at the be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A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Ask a surf lifesaver for some good advice - surf conditions can change quickly so talk to a surf lifesaver or lifeguard before entering th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Get a friend to swim with you - so you can look out for each other's safety and get help if needed. Children should always be supervised by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810d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10dc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f810dc"/>
                </a:solidFill>
                <a:latin typeface="Arial Narrow"/>
              </a:rPr>
              <a:t> Stick your hand up for help - if you get into trouble in the water, stay calm, raise your arm to signal for help. Float with a current or rip - don't try and swim agains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50920" y="0"/>
            <a:ext cx="8640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ere is some Information on Water Safet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36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10dc"/>
                </a:solidFill>
                <a:latin typeface="Arial Narrow"/>
              </a:rPr>
              <a:t>Rips</a:t>
            </a: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 - A rip is a strong current running out to sea. Rips are the cause of most rescues performed at beaches. A rip usually occurs when a channel forms between the shore and a sandbar, and large waves have built up water which then returns to sea, causing a drag effect. The larger the surf, the stronger the rip. Rips are dangerous as they can carry a weak or tired swimmer out into deep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2032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10dc"/>
                </a:solidFill>
                <a:latin typeface="Arial Narrow"/>
              </a:rPr>
              <a:t>The Surf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10536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10dc"/>
                </a:solidFill>
                <a:latin typeface="Arial Narrow"/>
              </a:rPr>
              <a:t>Identifying a Rip - </a:t>
            </a: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The following features will alert you to the presence of a r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darker colour, indicating deeper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murky brown water caused by sand stirred up off the bott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smoother surface with much smaller waves, alongside white water (broken wav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waves breaking further out to sea on both sides of the 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debris floating out to s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a rippled look, when the water around is generally c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10dc"/>
                </a:solidFill>
                <a:latin typeface="Arial Narrow"/>
              </a:rPr>
              <a:t>Always swim between the flags and if you are unsure of the beach conditions always check with the lifesavers on duty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5783400"/>
            <a:ext cx="439092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5280" y="189000"/>
            <a:ext cx="8569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Narrow"/>
              </a:rPr>
              <a:t>Never swim alone always make sure that somebody is watching</a:t>
            </a:r>
            <a:endParaRPr b="0" i="1" lang="en-US" sz="24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908000" y="1557360"/>
            <a:ext cx="5329440" cy="35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6:04:51Z</dcterms:created>
  <dc:creator>Garry Liddell</dc:creator>
  <dc:description/>
  <dc:language>en-US</dc:language>
  <cp:lastModifiedBy>Admin</cp:lastModifiedBy>
  <dcterms:modified xsi:type="dcterms:W3CDTF">2009-03-05T04:15:34Z</dcterms:modified>
  <cp:revision>2</cp:revision>
  <dc:subject/>
  <dc:title>Safety in the water  for younger kids</dc:title>
</cp:coreProperties>
</file>